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F3CA-1901-467F-9B2E-8737F6E63D8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BD6B-7D53-4C62-8B7A-9BF3531AC2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5515-B3D5-431F-8D95-9A8FE2B3F1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96FB-88E1-49F0-A01C-117150FD9F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C462-E309-455E-990C-8477F720F1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61CA-ABAC-41EE-8892-C413206ACE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8B85-EF61-4D59-9355-5F4EF7955C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2865-C923-46DB-BA6A-88D627F2AA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BB1E-C079-441C-83FD-89B9225E82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2179-A409-4951-9765-A2C0082FCB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58D3-02B0-47DF-AE14-CAAAF1F879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F767-6E63-4D58-881F-C7959D39CC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F98D-2345-4328-82B5-59428D31AD8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2CE7-7714-4A11-80E2-C70EDFBCC6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23C0-9D73-4BFD-B30E-A42F3BCD4B4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EEDC-F067-4CDF-A09B-989124E6DF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0570-C4D0-4DD2-A28E-DD926AC1197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16DD-8043-478E-8CB1-00DC7C5B854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0CA5-52A1-43CB-9946-85EF2DB607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8A04-28E9-4387-867C-53D38CB962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4E26-4BA6-4EFC-B0D3-42FC638045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AAE9-8DCE-4216-9657-C248E88F6B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A7CD-0C44-433E-8949-1B352ED17E8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2206-3D87-4981-AB09-E64F5A5A9C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69FD-F6CF-41B9-B90B-21ACF93105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1A48-EA11-4D10-B9A7-5EC4F726E9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6671-11AD-45E9-B2CD-D27E8C65B1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924F-10B8-446C-AE0E-9797559058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A2C3-6AC2-4735-A191-2222349FBC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CFB6-F61A-4BB3-8BBA-FC90586FA0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90AF-9C90-4020-BF3E-187D96A2F7A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4791-ECE4-4D39-A21A-202C23330D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A388-72EA-42E4-80A3-C573CC7CA49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2F6B-5172-441F-8548-66BD83E28A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190A-ACD8-44AD-AE50-C79D2F81B8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A3A9-AF4C-4B0A-8786-2B1C088BAB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307-F64F-4472-8283-F51927A1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195-DA6B-42BF-ADB4-BBCB4359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87F-2E94-45BC-9B49-2611E678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E65-5136-4A6B-AC2E-D1357E8C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2E9-02DA-4238-94C7-65F4FC1D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CCE-E206-4257-871D-85D00201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A20-B576-4408-A4BE-22B2E694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1F6-4088-472E-B1FC-8646810A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5E6-3721-4E2F-A9D7-1BE903CB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D69-1A82-406E-B53E-AC9058C1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F7A-B9F2-46F7-9667-2361117B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EE2-32EE-4278-9B76-70615ACF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0FAA-D657-4143-B3B0-DC3FDEFF1FAE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여보세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接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전화를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받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전화를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끊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보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短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uǎnxì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문자 메시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있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에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서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哪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ǎ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어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书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ūdià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서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50376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diànyǐng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영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엄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见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466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jiànmià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만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影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260280" y="6805440"/>
            <a:ext cx="63374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diànyǐngyuà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영화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图书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túshūguǎ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도서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每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ěit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公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gōngyuá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공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散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àn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산책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바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ūq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나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邮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óuj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우체국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操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āochǎ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운동장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명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学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xuéxià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학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门口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ménkǒ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입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手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j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휴대전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号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àom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번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多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duōshǎ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얼마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영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ě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다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xi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iànhu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전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ò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사용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전화를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걸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4:31:25Z</dcterms:created>
  <dc:creator>System</dc:creator>
  <dc:description/>
  <dc:language>en-US</dc:language>
  <cp:lastModifiedBy>System</cp:lastModifiedBy>
  <dcterms:modified xsi:type="dcterms:W3CDTF">2014-01-24T05:14:10Z</dcterms:modified>
  <cp:revision>5</cp:revision>
  <dc:subject/>
  <dc:title>슬라이드 1</dc:title>
</cp:coreProperties>
</file>